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6A3C-010B-4343-B041-71C2B7342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D0F0-806E-4D59-9B0E-F5C98E17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A035-8769-4429-BAA4-8052E9185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71A0-E3E2-45F6-B6BF-B3B719223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096D-8217-45C7-AEE6-0061A4D8C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3B10-B65E-4128-96BE-D0766A39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E41B-B965-45C0-910A-4F3745C3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C42D-042C-4C20-92BD-7692D709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7F40F-35B4-42AA-86A3-B7315895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6AFA6-3C58-4888-8F6D-3BCDB391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B348-C649-41C8-86C5-4B7C48D4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B20D-703E-4492-BB7C-C7DEFE66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3CCA-5137-4FF8-878C-DE99F3CC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DA1D-DC40-4E0B-9DE8-4F4C2702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E0F6-75F5-4EDC-B376-5F5A9181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3C43-238B-4C78-B9F1-C5B74F121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D8AD-844C-4238-9C57-A95B792A2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16C3-3390-4F23-8D10-2DF1FA52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3176-EC19-4075-9B36-7B253AE1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0D17-3453-4E6F-90D5-255F0A95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6114-03C2-46DE-9832-D5E1BF1A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C9F0-E6DD-4A23-BDB4-2D85E3A0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9DA0-3573-48E1-9819-4B3F4A42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40E9-D546-47F7-9D58-61B5B819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3279-5AD0-4109-BDC0-0E1A805CB23C}" type="datetime">
              <a:rPr b="0" lang="de-DE" sz="1200" spc="-1" strike="noStrike">
                <a:solidFill>
                  <a:srgbClr val="bcbcbc"/>
                </a:solidFill>
                <a:latin typeface="Book Antiqu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9346-C54A-495D-B569-1D92449E0E52}" type="slidenum">
              <a:rPr b="0" lang="de-CH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73A3-8DD2-4771-B08C-5AD55CE1CE06}" type="datetime">
              <a:rPr b="0" lang="de-DE" sz="1200" spc="-1" strike="noStrike">
                <a:solidFill>
                  <a:srgbClr val="bcbcbc"/>
                </a:solidFill>
                <a:latin typeface="Book Antiqu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C502-0198-42A4-AD15-F0E547A1D465}" type="slidenum">
              <a:rPr b="0" lang="de-CH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hyperlink" Target="http://de.wikipedia.org/wiki/Bild:Anamorphic_lens_illustration_with_stretching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el 1" descr=""/>
          <p:cNvPicPr/>
          <p:nvPr/>
        </p:nvPicPr>
        <p:blipFill>
          <a:blip r:embed="rId2"/>
          <a:stretch/>
        </p:blipFill>
        <p:spPr>
          <a:xfrm>
            <a:off x="414360" y="1365120"/>
            <a:ext cx="824220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el 1" descr=""/>
          <p:cNvPicPr/>
          <p:nvPr/>
        </p:nvPicPr>
        <p:blipFill>
          <a:blip r:embed="rId2"/>
          <a:stretch/>
        </p:blipFill>
        <p:spPr>
          <a:xfrm>
            <a:off x="-219240" y="208080"/>
            <a:ext cx="9509400" cy="11570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Publikumskrise um 1950 (Aufkommen des TV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Junges Publikum ansprechen  (Inhalte aus dem Leben der Jugendlichen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Änderung der Filmmusik: neu Rock, Pop, Jazz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Verbesserung der Klangqualität in Kino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Filmmusik auf Tonträger vermarkte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ab 1970er:  wieder synfonische Filmmusik mit grossen Orchester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ab 1980er:  Synthesizer-Musi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tummfilmzei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Früher Tonfil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Zeitalter des Fernsehe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Kinetoskop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Cinématograph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Tappeur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Pianist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Jazz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Ragtim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Düste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Jahrmärkt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Rezitato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pielfilm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Kinosäl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80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Wind, Pferdegetrappel, Schritte, etc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Nadelt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Bil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Filmmusi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Kratz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Publikumskris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Jung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Jazz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1970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ynthesiz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285480" y="1599840"/>
            <a:ext cx="871524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tummfilmzeit  (1895 – ca. 1925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Der frühe Tonfilm  (ca. 1930 – ca. 1950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Der Film im Zeitalter des Fernsehens  (ab ca. 1950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1895: Erfindung des Kinetoskops  (Thomas A. Edison) und des Cinématographen (Louis und Auguste Lumiè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7" name="Picture 5" descr="http://www.filmvorfuehrer.de/images/9/93/Edison_Kinetoscope.jpg"/>
          <p:cNvPicPr/>
          <p:nvPr/>
        </p:nvPicPr>
        <p:blipFill>
          <a:blip r:embed="rId3"/>
          <a:stretch/>
        </p:blipFill>
        <p:spPr>
          <a:xfrm>
            <a:off x="5857920" y="2786040"/>
            <a:ext cx="2647800" cy="3635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http://www.victorian-cinema.net/cinematographwrench.jpg"/>
          <p:cNvPicPr/>
          <p:nvPr/>
        </p:nvPicPr>
        <p:blipFill>
          <a:blip r:embed="rId4"/>
          <a:stretch/>
        </p:blipFill>
        <p:spPr>
          <a:xfrm>
            <a:off x="544680" y="3286080"/>
            <a:ext cx="402732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1895: zeigten erstmals kurze Filme</a:t>
            </a:r>
            <a:br>
              <a:rPr sz="2800"/>
            </a:b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von Tappeuren live musikalisch untermal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Jazz &amp; Ragtim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Keine Möglichkeit, Tonaufnahmen zu mach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Gründe für die Musik im Film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-  Lautes Rattern des Projekto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-  Düstere Stimmung erhell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päter: Film als billige Massenvergnügu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1903: durchschnittl. Filmlaufzeit: 9 Minut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Rezitato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ab 1910: Dokumentarfilme        Spielfilm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Kinosäl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bis zu 80 Musik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infonieorchester oder Kinoorgeln (Klangfarben, Geräuscheffekte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Cue Shee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el 1" descr=""/>
          <p:cNvPicPr/>
          <p:nvPr/>
        </p:nvPicPr>
        <p:blipFill>
          <a:blip r:embed="rId2"/>
          <a:stretch/>
        </p:blipFill>
        <p:spPr>
          <a:xfrm>
            <a:off x="-219240" y="208080"/>
            <a:ext cx="9509400" cy="11570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Gründe für späten Einsatz des Tonfilm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Tonwiedergabe schlech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Keine Konzentration auf Fil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challplatte und Filmstreifen liefen auseinander          keine Synchronitä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itel 1" descr=""/>
          <p:cNvPicPr/>
          <p:nvPr/>
        </p:nvPicPr>
        <p:blipFill>
          <a:blip r:embed="rId2"/>
          <a:stretch/>
        </p:blipFill>
        <p:spPr>
          <a:xfrm>
            <a:off x="-219240" y="208080"/>
            <a:ext cx="9509400" cy="1157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599840"/>
            <a:ext cx="83296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Entwicklung der Langspielplatte  (Nadeltonverfahren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päter Lichttonverfahren: Bild- und Toninformation auf demselbem Streife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Vorteil beim Vervielfältigen des Film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Synchronität bei Filmris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Eingekerbter Pfeil nach rechts 5"/>
          <p:cNvSpPr/>
          <p:nvPr/>
        </p:nvSpPr>
        <p:spPr>
          <a:xfrm>
            <a:off x="1928880" y="3643200"/>
            <a:ext cx="285840" cy="189000"/>
          </a:xfrm>
          <a:custGeom>
            <a:avLst/>
            <a:gdLst>
              <a:gd name="textAreaLeft" fmla="*/ 47160 w 285840"/>
              <a:gd name="textAreaRight" fmla="*/ 238680 w 285840"/>
              <a:gd name="textAreaTop" fmla="*/ 47160 h 189000"/>
              <a:gd name="textAreaBottom" fmla="*/ 141840 h 189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460" y="5400"/>
                </a:lnTo>
                <a:lnTo>
                  <a:pt x="14460" y="0"/>
                </a:lnTo>
                <a:lnTo>
                  <a:pt x="21600" y="10800"/>
                </a:lnTo>
                <a:lnTo>
                  <a:pt x="14460" y="21600"/>
                </a:lnTo>
                <a:lnTo>
                  <a:pt x="14460" y="16200"/>
                </a:lnTo>
                <a:lnTo>
                  <a:pt x="0" y="16200"/>
                </a:lnTo>
                <a:lnTo>
                  <a:pt x="357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2" descr="Filmbild mit Lichttonspuren in Zackenschrif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43800" y="4210200"/>
            <a:ext cx="1936800" cy="1076040"/>
          </a:xfrm>
          <a:prstGeom prst="rect">
            <a:avLst/>
          </a:prstGeom>
          <a:ln w="0">
            <a:noFill/>
          </a:ln>
        </p:spPr>
      </p:pic>
      <p:sp>
        <p:nvSpPr>
          <p:cNvPr id="101" name="Eingekerbter Pfeil nach rechts 6"/>
          <p:cNvSpPr/>
          <p:nvPr/>
        </p:nvSpPr>
        <p:spPr>
          <a:xfrm>
            <a:off x="1928880" y="4143240"/>
            <a:ext cx="285840" cy="189000"/>
          </a:xfrm>
          <a:custGeom>
            <a:avLst/>
            <a:gdLst>
              <a:gd name="textAreaLeft" fmla="*/ 47160 w 285840"/>
              <a:gd name="textAreaRight" fmla="*/ 238680 w 285840"/>
              <a:gd name="textAreaTop" fmla="*/ 47160 h 189000"/>
              <a:gd name="textAreaBottom" fmla="*/ 141840 h 189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460" y="5400"/>
                </a:lnTo>
                <a:lnTo>
                  <a:pt x="14460" y="0"/>
                </a:lnTo>
                <a:lnTo>
                  <a:pt x="21600" y="10800"/>
                </a:lnTo>
                <a:lnTo>
                  <a:pt x="14460" y="21600"/>
                </a:lnTo>
                <a:lnTo>
                  <a:pt x="14460" y="16200"/>
                </a:lnTo>
                <a:lnTo>
                  <a:pt x="0" y="16200"/>
                </a:lnTo>
                <a:lnTo>
                  <a:pt x="357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feld 7"/>
          <p:cNvSpPr/>
          <p:nvPr/>
        </p:nvSpPr>
        <p:spPr>
          <a:xfrm>
            <a:off x="993600" y="5715000"/>
            <a:ext cx="743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Empfindliche Filmstreifen (Verschmutzung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Kratz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28400" y="1599840"/>
            <a:ext cx="87152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Rasante Verbreitung des Tonfilm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Anzahl Tonkinos: 500 auf 5000 (innert einem Jahr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ffffff"/>
                </a:solidFill>
                <a:latin typeface="Book Antiqua"/>
              </a:rPr>
              <a:t>Elektroindustrie in USA (v.a. in Hollywood) gewann grossen Einfluss (Patente für Tontechnik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4" name="Titel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20:10:33Z</dcterms:created>
  <dc:creator>Pascal Hanselmann</dc:creator>
  <dc:description/>
  <dc:language>en-US</dc:language>
  <cp:lastModifiedBy>***</cp:lastModifiedBy>
  <dcterms:modified xsi:type="dcterms:W3CDTF">2011-06-23T14:34:23Z</dcterms:modified>
  <cp:revision>16</cp:revision>
  <dc:subject/>
  <dc:title>Geschichte der Filmmusik</dc:title>
</cp:coreProperties>
</file>