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33E-1AD0-4838-A99A-13627924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116-C4D4-4E0E-8882-BE1FD7DC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B7E-39AA-40C2-910B-7ACE4298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459-3CB1-4136-A15A-900BF09F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2333-08CA-4C93-88EA-FB57527B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A6AD-29F8-4AEC-803F-5B3EE71C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58AE-8269-4EA4-9362-D88F72C7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263A-67E0-4364-9888-4592966B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17F-9BE4-494C-B311-B6567A4C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F6E8-F6F2-42C1-9643-F28395F6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9E07-C209-468F-A441-7D28E456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14A-1F10-4AB8-939F-9CE78792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C277-8CD1-4A17-9694-77F4FB8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D7A9-6544-4908-9BAC-A9CD1B5C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A7C7-A9C6-4C1D-8672-07E2899E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FB55-0999-48F7-9D65-58063DAC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FAC-27C1-43C3-86EF-119490B1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66D-10C5-4073-9AD0-07E41CBF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4A2-65BD-4BCD-8E20-95387119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995-818D-4FBE-B22E-3E801B9B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CB4-6274-4E8F-AE04-047EEDC5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251-BBEF-4511-8828-3D9EBE97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CC6-D946-408D-A633-515CE6DC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E8D-F840-42E6-B556-FD0D5E79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1EE2-23E9-4FBF-A687-5E56C758C0E7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427C-E983-4608-A634-A818C0CF14C5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CFA-95FF-4506-B189-BEC9ED8A3069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9712-20C3-4433-9FF8-41FF4CD962B4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de.wikipedia.org/wiki/Bild:Anamorphic_lens_illustration_with_stretching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el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 um 1950 (Aufkommen des TV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s Publikum ansprechen  (Inhalte aus dem Leben der Jugendlich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Änderung der Filmmusik: neu Rock, Pop, 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erbesserung der Klangqualität in Ki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 auf Tonträger vermarkt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70er:  wieder synfonische Filmmusik mit grossen Orchest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80er:  Synthesizer-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rüher Ton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Zeitalter des Fernse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etosko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inématograp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appeu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ian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üst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hrmärk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Wind, Pferdegetrappel, Schritte, et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Nadel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thesi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599840"/>
            <a:ext cx="87152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  (1895 – ca. 1925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rühe Tonfilm  (ca. 1930 –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ilm im Zeitalter des Fernsehens  (ab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Erfindung des Kinetoskops  (Thomas A. Edison) und des Cinématographen (Louis und Auguste Lumiè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http://www.filmvorfuehrer.de/images/9/93/Edison_Kinetoscope.jpg"/>
          <p:cNvPicPr/>
          <p:nvPr/>
        </p:nvPicPr>
        <p:blipFill>
          <a:blip r:embed="rId3"/>
          <a:stretch/>
        </p:blipFill>
        <p:spPr>
          <a:xfrm>
            <a:off x="5857920" y="2786040"/>
            <a:ext cx="264780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www.victorian-cinema.net/cinematographwrench.jpg"/>
          <p:cNvPicPr/>
          <p:nvPr/>
        </p:nvPicPr>
        <p:blipFill>
          <a:blip r:embed="rId4"/>
          <a:stretch/>
        </p:blipFill>
        <p:spPr>
          <a:xfrm>
            <a:off x="544680" y="3286080"/>
            <a:ext cx="402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zeigten erstmals kurze Filme</a:t>
            </a:r>
            <a:br>
              <a:rPr sz="2800"/>
            </a:b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n Tappeuren live musikalisch unterma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 &amp; 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Möglichkeit, Tonaufnahmen zu mac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die Musik im Fil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Lautes Rattern des Projek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Düstere Stimmung erh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: Film als billige Massenvergnügu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03: durchschnittl. Filmlaufzeit: 9 Minu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10: Dokumentarfilme        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s zu 80 Musi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infonieorchester oder Kinoorgeln (Klangfarben, Geräuscheffek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ue She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späten Einsatz des Tonfilm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onwiedergabe schle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Konzentration auf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challplatte und Filmstreifen liefen auseinander          keine Synchronit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ntwicklung der Langspielplatte  (Nadeltonverfahr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 Lichttonverfahren: Bild- und Toninformation auf demselbem Streif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rteil beim Vervielfältigen des Fil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chronität bei Filmri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Eingekerbter Pfeil nach rechts 5"/>
          <p:cNvSpPr/>
          <p:nvPr/>
        </p:nvSpPr>
        <p:spPr>
          <a:xfrm>
            <a:off x="1928880" y="364320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Filmbild mit Lichttonspuren in Zackenschrif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210200"/>
            <a:ext cx="1936800" cy="1076040"/>
          </a:xfrm>
          <a:prstGeom prst="rect">
            <a:avLst/>
          </a:prstGeom>
          <a:ln w="0">
            <a:noFill/>
          </a:ln>
        </p:spPr>
      </p:pic>
      <p:sp>
        <p:nvSpPr>
          <p:cNvPr id="101" name="Eingekerbter Pfeil nach rechts 6"/>
          <p:cNvSpPr/>
          <p:nvPr/>
        </p:nvSpPr>
        <p:spPr>
          <a:xfrm>
            <a:off x="1928880" y="414324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993600" y="5715000"/>
            <a:ext cx="743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mpfindliche Filmstreifen (Verschmutzu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400" y="1599840"/>
            <a:ext cx="871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sante Verbreitung des Tonfi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nzahl Tonkinos: 500 auf 5000 (innert einem Jah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lektroindustrie in USA (v.a. in Hollywood) gewann grossen Einfluss (Patente für Tontechni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10:33Z</dcterms:created>
  <dc:creator>Pascal Hanselmann</dc:creator>
  <dc:description/>
  <dc:language>en-US</dc:language>
  <cp:lastModifiedBy>***</cp:lastModifiedBy>
  <dcterms:modified xsi:type="dcterms:W3CDTF">2011-06-23T14:34:23Z</dcterms:modified>
  <cp:revision>16</cp:revision>
  <dc:subject/>
  <dc:title>Geschichte der Filmmusik</dc:title>
</cp:coreProperties>
</file>