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0F2-48D7-4820-9B80-28B18B19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872-ABF6-4EAE-B500-B7BCA31A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65D-35EA-4118-B5CF-6FAEF507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D9D-EDE5-479A-B285-7A117837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673D-C0FB-42BF-AC4D-25F59044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8DA-9F0E-4228-9D8E-4D103DA2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58BE-3CEC-41DB-A31D-BC61DF58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1EAD-86B7-4CC2-95BF-DA330FE4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2BD6-594E-4F03-9A1B-4041BDC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91DA-D8D4-49E0-B71F-01312A2B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23F-4B67-41D2-BB8F-81C65C49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E55-C88A-46DA-B01E-ACBA89CB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B437-793C-4B35-AFAE-9C86EEB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19CC-1AAB-4B0F-B190-60FD9DB4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79C-6B53-4DE2-A33D-A619A0DE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6848-5359-49F7-A8A1-6F2EA8E7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D06D-CE60-44FC-AAA0-A44A0047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BBA-107D-4D3D-BAFD-8F393E8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2CE-E91C-4847-9C58-41F640F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019-0501-4358-875B-D4D7F70E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9DD-7292-4C33-9139-A3AED404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B6A-5E42-4B59-9A79-720CF92F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740-4805-4EF5-BE55-3A0698C7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73D-34C3-4DD4-9D35-0E9224E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08D6-49E3-4A24-BA72-76881EB8B7BA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0D75-6FC8-4E83-99DE-6272124E49EE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EDAA-858A-4019-B388-1E225E1640E6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A3B2-E9BF-4F40-A736-84F37744AAE1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de.wikipedia.org/wiki/Bild:Anamorphic_lens_illustration_with_stretching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el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 um 1950 (Aufkommen des TV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s Publikum ansprechen  (Inhalte aus dem Leben der Jugendlich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Änderung der Filmmusik: neu Rock, Pop, 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erbesserung der Klangqualität in Ki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 auf Tonträger vermarkt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70er:  wieder synfonische Filmmusik mit grossen Orchest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80er:  Synthesizer-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rüher Ton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Zeitalter des Fernse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etosko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inématograp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appeu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ian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üst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hrmärk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Wind, Pferdegetrappel, Schritte, et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Nadel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thesi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599840"/>
            <a:ext cx="87152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  (1895 – ca. 1925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rühe Tonfilm  (ca. 1930 –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ilm im Zeitalter des Fernsehens  (ab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Erfindung des Kinetoskops  (Thomas A. Edison) und des Cinématographen (Louis und Auguste Lumiè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http://www.filmvorfuehrer.de/images/9/93/Edison_Kinetoscope.jpg"/>
          <p:cNvPicPr/>
          <p:nvPr/>
        </p:nvPicPr>
        <p:blipFill>
          <a:blip r:embed="rId3"/>
          <a:stretch/>
        </p:blipFill>
        <p:spPr>
          <a:xfrm>
            <a:off x="5857920" y="2786040"/>
            <a:ext cx="264780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www.victorian-cinema.net/cinematographwrench.jpg"/>
          <p:cNvPicPr/>
          <p:nvPr/>
        </p:nvPicPr>
        <p:blipFill>
          <a:blip r:embed="rId4"/>
          <a:stretch/>
        </p:blipFill>
        <p:spPr>
          <a:xfrm>
            <a:off x="544680" y="3286080"/>
            <a:ext cx="402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zeigten erstmals kurze Filme</a:t>
            </a:r>
            <a:br>
              <a:rPr sz="2800"/>
            </a:b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n Tappeuren live musikalisch unterma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 &amp; 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Möglichkeit, Tonaufnahmen zu mac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die Musik im Fil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Lautes Rattern des Projek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Düstere Stimmung erh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: Film als billige Massenvergnügu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03: durchschnittl. Filmlaufzeit: 9 Minu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10: Dokumentarfilme        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s zu 80 Musi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infonieorchester oder Kinoorgeln (Klangfarben, Geräuscheffek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ue She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späten Einsatz des Tonfilm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onwiedergabe schle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Konzentration auf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challplatte und Filmstreifen liefen auseinander          keine Synchronit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ntwicklung der Langspielplatte  (Nadeltonverfahr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 Lichttonverfahren: Bild- und Toninformation auf demselbem Streif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rteil beim Vervielfältigen des Fil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chronität bei Filmri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Eingekerbter Pfeil nach rechts 5"/>
          <p:cNvSpPr/>
          <p:nvPr/>
        </p:nvSpPr>
        <p:spPr>
          <a:xfrm>
            <a:off x="1928880" y="364320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Filmbild mit Lichttonspuren in Zackenschrif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210200"/>
            <a:ext cx="1936800" cy="1076040"/>
          </a:xfrm>
          <a:prstGeom prst="rect">
            <a:avLst/>
          </a:prstGeom>
          <a:ln w="0">
            <a:noFill/>
          </a:ln>
        </p:spPr>
      </p:pic>
      <p:sp>
        <p:nvSpPr>
          <p:cNvPr id="101" name="Eingekerbter Pfeil nach rechts 6"/>
          <p:cNvSpPr/>
          <p:nvPr/>
        </p:nvSpPr>
        <p:spPr>
          <a:xfrm>
            <a:off x="1928880" y="414324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993600" y="5715000"/>
            <a:ext cx="743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mpfindliche Filmstreifen (Verschmutzu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400" y="1599840"/>
            <a:ext cx="871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sante Verbreitung des Tonfi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nzahl Tonkinos: 500 auf 5000 (innert einem Jah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lektroindustrie in USA (v.a. in Hollywood) gewann grossen Einfluss (Patente für Tontechni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10:33Z</dcterms:created>
  <dc:creator>Pascal Hanselmann</dc:creator>
  <dc:description/>
  <dc:language>en-US</dc:language>
  <cp:lastModifiedBy>***</cp:lastModifiedBy>
  <dcterms:modified xsi:type="dcterms:W3CDTF">2011-06-23T14:34:23Z</dcterms:modified>
  <cp:revision>16</cp:revision>
  <dc:subject/>
  <dc:title>Geschichte der Filmmusik</dc:title>
</cp:coreProperties>
</file>